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3.xml.rels" ContentType="application/vnd.openxmlformats-package.relationships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761163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608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1440" y="9000"/>
            <a:ext cx="2930400" cy="443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30760" y="9000"/>
            <a:ext cx="2930400" cy="44316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4"/>
          </p:nvPr>
        </p:nvSpPr>
        <p:spPr>
          <a:xfrm>
            <a:off x="-1440" y="8996400"/>
            <a:ext cx="2930400" cy="442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5"/>
          </p:nvPr>
        </p:nvSpPr>
        <p:spPr>
          <a:xfrm>
            <a:off x="3830760" y="8996400"/>
            <a:ext cx="2930400" cy="4428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39800"/>
                <a:tab algn="l" pos="1479600"/>
                <a:tab algn="l" pos="2219400"/>
                <a:tab algn="l" pos="2959200"/>
                <a:tab algn="l" pos="3699000"/>
                <a:tab algn="l" pos="4438800"/>
                <a:tab algn="l" pos="5178600"/>
                <a:tab algn="l" pos="5918040"/>
                <a:tab algn="l" pos="6657840"/>
                <a:tab algn="l" pos="7397640"/>
                <a:tab algn="l" pos="8137440"/>
                <a:tab algn="l" pos="8877240"/>
                <a:tab algn="l" pos="9617040"/>
                <a:tab algn="l" pos="10356840"/>
              </a:tabLst>
            </a:pPr>
            <a:fld id="{1C0ECA02-74DD-4F5D-A632-5E4EB0BCDF76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900000" y="4490640"/>
            <a:ext cx="4959360" cy="397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Img"/>
          </p:nvPr>
        </p:nvSpPr>
        <p:spPr>
          <a:xfrm>
            <a:off x="1176120" y="828720"/>
            <a:ext cx="4406760" cy="3301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79360" y="826920"/>
            <a:ext cx="4402440" cy="330228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901440" y="4491000"/>
            <a:ext cx="4957560" cy="3976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.g. LBO:   60% secured bank finance, 30% mezzanine, 10% equity , implies ‘gearing’ or ‘leverage’  of 90%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sldImg"/>
          </p:nvPr>
        </p:nvSpPr>
        <p:spPr>
          <a:xfrm>
            <a:off x="1179360" y="826920"/>
            <a:ext cx="4402440" cy="3302280"/>
          </a:xfrm>
          <a:prstGeom prst="rect">
            <a:avLst/>
          </a:prstGeom>
          <a:ln w="0">
            <a:noFill/>
          </a:ln>
        </p:spPr>
      </p:sp>
      <p:sp>
        <p:nvSpPr>
          <p:cNvPr id="1624" name="PlaceHolder 2"/>
          <p:cNvSpPr>
            <a:spLocks noGrp="1"/>
          </p:cNvSpPr>
          <p:nvPr>
            <p:ph type="body"/>
          </p:nvPr>
        </p:nvSpPr>
        <p:spPr>
          <a:xfrm>
            <a:off x="901440" y="4491000"/>
            <a:ext cx="4957560" cy="3976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eg. </a:t>
            </a: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</a:rPr>
              <a:t>Thai Baht Structured Note: (Morgan Stanley DPG):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oupon payments in USD, high coupon of 11%.  But principal repayment is reduced, if Baht is devalued relative to a basket of currencies (including the USD).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body"/>
          </p:nvPr>
        </p:nvSpPr>
        <p:spPr>
          <a:xfrm>
            <a:off x="901440" y="4491000"/>
            <a:ext cx="4957560" cy="3976560"/>
          </a:xfrm>
          <a:prstGeom prst="rect">
            <a:avLst/>
          </a:prstGeom>
          <a:noFill/>
          <a:ln w="0">
            <a:noFill/>
          </a:ln>
        </p:spPr>
        <p:txBody>
          <a:bodyPr lIns="89640" rIns="8964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ward rate curve (gives path of expected inflation)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5,    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10,      F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=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 type="sldImg"/>
          </p:nvPr>
        </p:nvSpPr>
        <p:spPr>
          <a:xfrm>
            <a:off x="1179360" y="830160"/>
            <a:ext cx="4400640" cy="3300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79360" y="826920"/>
            <a:ext cx="4402440" cy="330228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901440" y="4491000"/>
            <a:ext cx="4957560" cy="397656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Using data on 11 other countries (with continuous trading 1926-96) the US exceeded the median return on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se counties by about 1.5% (in nominal term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duce ‘US market risk premium by 1.5% 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Source Brealey &amp; Myers 6th ed p156-164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888840"/>
                <a:tab algn="l" pos="1778040"/>
                <a:tab algn="l" pos="2666880"/>
                <a:tab algn="l" pos="3556080"/>
                <a:tab algn="l" pos="4444920"/>
                <a:tab algn="l" pos="5334120"/>
                <a:tab algn="l" pos="6222960"/>
                <a:tab algn="l" pos="7112160"/>
                <a:tab algn="l" pos="8001000"/>
                <a:tab algn="l" pos="8889840"/>
                <a:tab algn="l" pos="977904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27ABA7-BB41-46A7-A81D-13B8540E17C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1000" y="348840"/>
            <a:ext cx="80262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9760" y="1397160"/>
            <a:ext cx="863604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9760" y="3997440"/>
            <a:ext cx="863604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369F05-80BE-4542-9311-BE48A0E72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11000" y="348840"/>
            <a:ext cx="80262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9760" y="1397160"/>
            <a:ext cx="421416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4880" y="1397160"/>
            <a:ext cx="421416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9760" y="3997440"/>
            <a:ext cx="421416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4880" y="3997440"/>
            <a:ext cx="421416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B518A-9947-4BE0-ABD0-35C257A1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11000" y="348840"/>
            <a:ext cx="80262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9760" y="1397160"/>
            <a:ext cx="278064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9720" y="1397160"/>
            <a:ext cx="278064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70040" y="1397160"/>
            <a:ext cx="278064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9760" y="3997440"/>
            <a:ext cx="278064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9720" y="3997440"/>
            <a:ext cx="278064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70040" y="3997440"/>
            <a:ext cx="278064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3C59D8-BC64-4D89-8931-C5D15A6CB9B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711000" y="348840"/>
            <a:ext cx="80262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9760" y="1397160"/>
            <a:ext cx="8636040" cy="49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2E96A-B366-40C3-9480-1A2FCD0A6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11000" y="348840"/>
            <a:ext cx="80262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9760" y="1397160"/>
            <a:ext cx="8636040" cy="49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41154E-8587-4522-A3CA-95636832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1000" y="348840"/>
            <a:ext cx="80262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9760" y="1397160"/>
            <a:ext cx="4214160" cy="49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4880" y="1397160"/>
            <a:ext cx="4214160" cy="49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31E0B-A921-4759-9B1E-35C96DE6C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11000" y="348840"/>
            <a:ext cx="80262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1C5F0A-BC34-4186-9B41-306EEB64D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711000" y="348840"/>
            <a:ext cx="8026200" cy="285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9D814-C6D8-40F8-8CF8-3DD6F60F8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11000" y="348840"/>
            <a:ext cx="80262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9760" y="1397160"/>
            <a:ext cx="421416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4880" y="1397160"/>
            <a:ext cx="4214160" cy="49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9760" y="3997440"/>
            <a:ext cx="421416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1238E4-7698-4FBE-9FA3-D57B631F7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1000" y="348840"/>
            <a:ext cx="80262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9760" y="1397160"/>
            <a:ext cx="4214160" cy="497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4880" y="1397160"/>
            <a:ext cx="421416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4880" y="3997440"/>
            <a:ext cx="421416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4BC38-1E32-49E3-A85F-4ED67B42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1000" y="348840"/>
            <a:ext cx="8026200" cy="61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9760" y="1397160"/>
            <a:ext cx="421416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4880" y="1397160"/>
            <a:ext cx="421416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9760" y="3997440"/>
            <a:ext cx="8636040" cy="237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725121-EDAA-47CA-903A-75E84482A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1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948360" y="651312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4F020B2-3643-4AFE-B8E1-E1DD534128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title"/>
          </p:nvPr>
        </p:nvSpPr>
        <p:spPr>
          <a:xfrm>
            <a:off x="711000" y="348840"/>
            <a:ext cx="8026200" cy="61596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329760" y="1397160"/>
            <a:ext cx="8636040" cy="4978080"/>
          </a:xfrm>
          <a:prstGeom prst="rect">
            <a:avLst/>
          </a:prstGeom>
          <a:solidFill>
            <a:srgbClr val="0000ff"/>
          </a:solidFill>
          <a:ln w="50760">
            <a:solidFill>
              <a:srgbClr val="ff0033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156204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19810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19810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198108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1447920" y="2362320"/>
          <a:ext cx="68580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2362320"/>
                    <a:ext cx="68580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" name=""/>
          <p:cNvSpPr/>
          <p:nvPr/>
        </p:nvSpPr>
        <p:spPr>
          <a:xfrm>
            <a:off x="304920" y="0"/>
            <a:ext cx="1752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00"/>
                </a:solidFill>
                <a:latin typeface="Arial"/>
              </a:rPr>
              <a:t>11/9/20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6400" y="382680"/>
            <a:ext cx="833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Arial"/>
              </a:rPr>
              <a:t>LECTURE: MARKETS,FIRMS AND INVESTO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" name=""/>
          <p:cNvSpPr/>
          <p:nvPr/>
        </p:nvSpPr>
        <p:spPr>
          <a:xfrm>
            <a:off x="914400" y="9907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0C244-CFD1-4ADD-B188-D892E9C9EF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826920" y="620640"/>
            <a:ext cx="86868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oney market assets (maturity &lt; 1 yea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bank deposits/loans, in  Eurodollars/Yen etc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OTC(non- marketable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Commercial Bills, Certificates of Deposit CD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 (also sold in  secondary marke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) Have a known  return (=yield/interest rate), if held 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91440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37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37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6" name=""/>
          <p:cNvSpPr/>
          <p:nvPr/>
        </p:nvSpPr>
        <p:spPr>
          <a:xfrm>
            <a:off x="824400" y="50760"/>
            <a:ext cx="580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ising/Lending Funds:  Short-te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91440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879840" y="101520"/>
            <a:ext cx="502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ising/Lending Funds: Bon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826920" y="692280"/>
            <a:ext cx="8077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Government Bonds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-bonds/Notes (UK = gilts)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long ter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usually ‘fixed interest’ ($ coupon) pay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plain vanilla or ‘straight’ b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orporate bonds, ( including ‘preference shares’)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entitled to cash payments before equity holders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restrictive covenants (e.g. cannot sell building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Floating Rate Notes,  FR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Convertib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Callable bo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1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1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41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43" name=""/>
          <p:cNvSpPr/>
          <p:nvPr/>
        </p:nvSpPr>
        <p:spPr>
          <a:xfrm>
            <a:off x="91440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826920" y="765000"/>
            <a:ext cx="81489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hare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equities, common stock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mat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Variable payments (= dividend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ast to be pai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ssuing Share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PO (‘going to market’ - e.g. LastMinute.com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ights Issue - additional shares to existing equity hol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cript Issue - ‘free shares’, no new fund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quity Warra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874080" y="179280"/>
            <a:ext cx="48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ising Funds: Shares/Equ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4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4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45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9" name=""/>
          <p:cNvSpPr/>
          <p:nvPr/>
        </p:nvSpPr>
        <p:spPr>
          <a:xfrm>
            <a:off x="91440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838080" y="692280"/>
            <a:ext cx="83822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Junk/High-yield/ low-grade / BOND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.e.  below BBB rat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ubordinated debt (last in interest payment and ‘debt-queue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anagement buy-outs MBO’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ually highly leveraged buy-outs LBO’s (e.g. buy-out of RJR Nabisco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d fo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ostile takeover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acquirer retains all voting rights in the new compan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ten hav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quity kicker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attached therefore often issued by ‘young’ fast growing firms  (media, cable TV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880" y="103320"/>
            <a:ext cx="574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ising Funds: Mezzanine Fina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91440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8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8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48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16" name="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855360" y="76320"/>
            <a:ext cx="3645000" cy="58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THER MARKET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38080" y="668160"/>
            <a:ext cx="81536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Foreign Exchange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ot market for foreign currenc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trade finance + speculato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f the above are known a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“cas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” o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“spot”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rket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i.e. for immediate delivery of the “asset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erivatives Market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wards \ futures (delivery in the fut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ons   (delivery is “optional”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waps     ( eg swap USD payments for FRF payments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d in ‘financial engineering’ / ‘structured finance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2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2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2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52" name="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/>
          <p:nvPr/>
        </p:nvSpPr>
        <p:spPr>
          <a:xfrm>
            <a:off x="3069360" y="2309760"/>
            <a:ext cx="327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Flow of Fun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457200" y="6477120"/>
            <a:ext cx="815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5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5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5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"/>
          <p:cNvSpPr/>
          <p:nvPr/>
        </p:nvSpPr>
        <p:spPr>
          <a:xfrm>
            <a:off x="1461960" y="1447920"/>
            <a:ext cx="70725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ntique Olv (W1)"/>
              </a:rPr>
              <a:t>Primary Lenders</a:t>
            </a:r>
            <a:r>
              <a:rPr b="1" lang="en-US" sz="2800" spc="-1" strike="noStrike">
                <a:solidFill>
                  <a:srgbClr val="ffffff"/>
                </a:solidFill>
                <a:latin typeface="Antique Olv (W1)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ntique Olv (W1)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Personal Sec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ntique Olv (W1)"/>
              </a:rPr>
              <a:t>Primary Borrowers</a:t>
            </a:r>
            <a:r>
              <a:rPr b="1" lang="en-US" sz="2800" spc="-1" strike="noStrike">
                <a:solidFill>
                  <a:srgbClr val="ffffff"/>
                </a:solidFill>
                <a:latin typeface="Antique Olv (W1)"/>
              </a:rPr>
              <a:t>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Companies and Governm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30160" y="228600"/>
            <a:ext cx="388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Lenders and Borrow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457200" y="6477120"/>
            <a:ext cx="815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9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59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9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>
            <a:off x="813240" y="177840"/>
            <a:ext cx="227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ntique Olv (W1)"/>
              </a:rPr>
              <a:t>Gover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755640" y="765000"/>
            <a:ext cx="838836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If taxes are insufficient to cover expendi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ntique Olv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Budget Deficit = G - T</a:t>
            </a: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         ( ‘PSBR’ in the UK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ntique Olv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Financed by:</a:t>
            </a: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printing mone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issuing deb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ing more debt can raise interest rates and may ultimately lead to debt crises (e.g. Latin American debt crises 1980s,  Russian bond defaults July 98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Antique Olv (W1)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ntique Olv (W1)"/>
              </a:rPr>
              <a:t>EMU deprives you of “printing money” or setting your own interest rate but it does not stop you issuing your own bonds (denominated in Eur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57200" y="6477120"/>
            <a:ext cx="815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62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3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63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"/>
          <p:cNvSpPr/>
          <p:nvPr/>
        </p:nvSpPr>
        <p:spPr>
          <a:xfrm>
            <a:off x="2144520" y="1644480"/>
            <a:ext cx="569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MARKETS and DEAL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66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66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94" name="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695" name=""/>
          <p:cNvGraphicFramePr/>
          <p:nvPr/>
        </p:nvGraphicFramePr>
        <p:xfrm>
          <a:off x="969840" y="2719440"/>
          <a:ext cx="2960640" cy="366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9840" y="2719440"/>
                    <a:ext cx="2960640" cy="36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7" name=""/>
          <p:cNvGraphicFramePr/>
          <p:nvPr/>
        </p:nvGraphicFramePr>
        <p:xfrm>
          <a:off x="5016600" y="3146400"/>
          <a:ext cx="3657600" cy="3090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16600" y="3146400"/>
                    <a:ext cx="3657600" cy="30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"/>
          <p:cNvSpPr/>
          <p:nvPr/>
        </p:nvSpPr>
        <p:spPr>
          <a:xfrm>
            <a:off x="839880" y="100080"/>
            <a:ext cx="358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ypes Of Transac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928800" y="692280"/>
            <a:ext cx="82152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ash Accoun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y “up front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Margin Accoun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y a proportion, borrow the 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ing “long”   (=buy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oing “short”  (=sell what you own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hort S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Repurchase Agreement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(Repo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0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70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70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34" name="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826920" y="1268280"/>
            <a:ext cx="8317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ypes Of Financial Asset:Lending And Borrowing F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low of Fund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s And Deal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s And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rward Rates and the Yield Curv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ata on Yields, Prices, Returns and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14400" y="11430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914400" y="525600"/>
            <a:ext cx="38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TOPICS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0" name=""/>
          <p:cNvSpPr/>
          <p:nvPr/>
        </p:nvSpPr>
        <p:spPr>
          <a:xfrm>
            <a:off x="91440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/>
          <p:nvPr/>
        </p:nvSpPr>
        <p:spPr>
          <a:xfrm>
            <a:off x="838080" y="196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r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863640" y="765000"/>
            <a:ext cx="82803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Arbitrageur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Keep price =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“fundamental value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Hedgers:</a:t>
            </a: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Offset risks that they currently f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peculators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ke "open" positions to make prof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Note: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Speculators provide funds for hedg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3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73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74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70" name="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841680" y="100080"/>
            <a:ext cx="338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Market  Maker (M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884160" y="692280"/>
            <a:ext cx="8512200" cy="47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M  Buys "low" at Bid pr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M  Sells "high" at Offer pri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Touch”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fference between highest bid and lowest offer pr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EAQ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st bid and ask/offer pric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splayed as the "yellow strip price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7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77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7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77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6" name="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"/>
          <p:cNvSpPr/>
          <p:nvPr/>
        </p:nvSpPr>
        <p:spPr>
          <a:xfrm>
            <a:off x="857160" y="747720"/>
            <a:ext cx="82868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inancial “prices” (e.g. stock/bond) prices respond to chang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views about the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s”, - look forward! (The past is only relevant in that it may help to predict the future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nce even if everyone acts “rationally”, we expect  (Stock) market prices to be volatile as they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immediately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“embody” changing views about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uture prospects for compan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his is referred to as “news”, that is “new information”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ut are markets “excessively volatile”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eenspan/Shiller,   “Irrational (Over)-Exuberance”,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ubbles, crashes, noise trad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862560" y="100080"/>
            <a:ext cx="4353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ices Respond To ‘News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838080" y="68580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0" name=""/>
          <p:cNvGrpSpPr/>
          <p:nvPr/>
        </p:nvGrpSpPr>
        <p:grpSpPr>
          <a:xfrm>
            <a:off x="0" y="0"/>
            <a:ext cx="826920" cy="6854760"/>
            <a:chOff x="0" y="0"/>
            <a:chExt cx="826920" cy="6854760"/>
          </a:xfrm>
        </p:grpSpPr>
        <p:sp>
          <p:nvSpPr>
            <p:cNvPr id="811" name=""/>
            <p:cNvSpPr/>
            <p:nvPr/>
          </p:nvSpPr>
          <p:spPr>
            <a:xfrm>
              <a:off x="0" y="0"/>
              <a:ext cx="82692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12" name=""/>
            <p:cNvGrpSpPr/>
            <p:nvPr/>
          </p:nvGrpSpPr>
          <p:grpSpPr>
            <a:xfrm>
              <a:off x="57960" y="163440"/>
              <a:ext cx="115920" cy="6550200"/>
              <a:chOff x="57960" y="163440"/>
              <a:chExt cx="115920" cy="6550200"/>
            </a:xfrm>
          </p:grpSpPr>
          <p:sp>
            <p:nvSpPr>
              <p:cNvPr id="813" name=""/>
              <p:cNvSpPr/>
              <p:nvPr/>
            </p:nvSpPr>
            <p:spPr>
              <a:xfrm>
                <a:off x="57960" y="1754280"/>
                <a:ext cx="11592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57960" y="1984320"/>
                <a:ext cx="11592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57960" y="2211480"/>
                <a:ext cx="11592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57960" y="2441520"/>
                <a:ext cx="11592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57960" y="2671920"/>
                <a:ext cx="11592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57960" y="2898720"/>
                <a:ext cx="11592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7960" y="3129120"/>
                <a:ext cx="11592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7960" y="3359160"/>
                <a:ext cx="11592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7960" y="3586320"/>
                <a:ext cx="11592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7960" y="3816360"/>
                <a:ext cx="11592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7960" y="4046400"/>
                <a:ext cx="11592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7960" y="4272120"/>
                <a:ext cx="11592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7960" y="4502160"/>
                <a:ext cx="11592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7960" y="4729320"/>
                <a:ext cx="11592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7960" y="4959360"/>
                <a:ext cx="11592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7960" y="5189400"/>
                <a:ext cx="11592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7960" y="5416560"/>
                <a:ext cx="11592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7960" y="5646600"/>
                <a:ext cx="11592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7960" y="5877000"/>
                <a:ext cx="11592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7960" y="6103800"/>
                <a:ext cx="11592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7960" y="6334200"/>
                <a:ext cx="11592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7960" y="6562800"/>
                <a:ext cx="11592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7960" y="163440"/>
                <a:ext cx="11592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7960" y="390600"/>
                <a:ext cx="11592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7960" y="620640"/>
                <a:ext cx="11592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7960" y="849240"/>
                <a:ext cx="11592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7960" y="1076400"/>
                <a:ext cx="11592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7960" y="1306440"/>
                <a:ext cx="11592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7960" y="1536840"/>
                <a:ext cx="11592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2" name=""/>
          <p:cNvSpPr/>
          <p:nvPr/>
        </p:nvSpPr>
        <p:spPr>
          <a:xfrm>
            <a:off x="68580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2649240" y="2355840"/>
            <a:ext cx="401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turns And R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914400" y="9907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45" name=""/>
          <p:cNvGrpSpPr/>
          <p:nvPr/>
        </p:nvGrpSpPr>
        <p:grpSpPr>
          <a:xfrm>
            <a:off x="0" y="3240"/>
            <a:ext cx="838080" cy="6854760"/>
            <a:chOff x="0" y="3240"/>
            <a:chExt cx="838080" cy="6854760"/>
          </a:xfrm>
        </p:grpSpPr>
        <p:sp>
          <p:nvSpPr>
            <p:cNvPr id="846" name=""/>
            <p:cNvSpPr/>
            <p:nvPr/>
          </p:nvSpPr>
          <p:spPr>
            <a:xfrm>
              <a:off x="0" y="324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47" name=""/>
            <p:cNvGrpSpPr/>
            <p:nvPr/>
          </p:nvGrpSpPr>
          <p:grpSpPr>
            <a:xfrm>
              <a:off x="58680" y="166680"/>
              <a:ext cx="117360" cy="6550200"/>
              <a:chOff x="58680" y="166680"/>
              <a:chExt cx="117360" cy="6550200"/>
            </a:xfrm>
          </p:grpSpPr>
          <p:sp>
            <p:nvSpPr>
              <p:cNvPr id="848" name=""/>
              <p:cNvSpPr/>
              <p:nvPr/>
            </p:nvSpPr>
            <p:spPr>
              <a:xfrm>
                <a:off x="58680" y="17575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58680" y="1987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58680" y="22147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58680" y="24447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58680" y="267516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58680" y="29019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58680" y="3132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58680" y="336240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58680" y="35895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58680" y="3819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58680" y="40496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58680" y="427536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58680" y="4505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58680" y="473256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58680" y="4962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58680" y="51926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58680" y="5419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58680" y="56498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58680" y="5880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58680" y="61070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58680" y="633744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58680" y="65660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58680" y="16668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58680" y="39384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58680" y="62388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58680" y="85248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58680" y="10796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58680" y="130968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680" y="154008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"/>
          <p:cNvSpPr/>
          <p:nvPr/>
        </p:nvSpPr>
        <p:spPr>
          <a:xfrm>
            <a:off x="841320" y="76320"/>
            <a:ext cx="459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SPREADS and YIEL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26920" y="692280"/>
            <a:ext cx="83170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prea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e difference between two “prices”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id-Ask Sprea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rket make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ys at the “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d” (eg $100 ) an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lls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t the “offer” or “ask” (eg. $102) 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id-ask spread above = $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Yiel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e.g. 10 % p.a.) on an interest bearing asse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: T-Bill, T-Bond, Eurodollar depos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rox. measure of the “return” on your investment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hen you hold the asset to mat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prea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n interest rates = Long rate(10yr) - short rate(3m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8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88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8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88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13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833400" y="100080"/>
            <a:ext cx="541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Prices and Retur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934920" y="1628640"/>
            <a:ext cx="8209080" cy="484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PR = Capital Gain + Running (Dividend) Yie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Share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100    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110     D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PR = 10% + 5% = 15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Bonds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100     P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= 110     Coupon =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PY = 10% + 2% = 12%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1066680" y="2637000"/>
            <a:ext cx="76964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1066680" y="4869000"/>
            <a:ext cx="769644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1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2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2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2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51" name=""/>
          <p:cNvSpPr/>
          <p:nvPr/>
        </p:nvSpPr>
        <p:spPr>
          <a:xfrm>
            <a:off x="838080" y="662040"/>
            <a:ext cx="830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olding Period Return (Yield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“return” when the asset is sold prior to mat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863640" y="9036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Nominal vs. Real Returns (Yields): Risk-free asse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991440" y="841320"/>
            <a:ext cx="786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isk Free (safe) Asset =  T-Bills or Bank deposi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826920" y="1692360"/>
            <a:ext cx="864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isher Equatio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omi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 risk free  return, r = real return + expected infl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al retur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reward for ‘waiting’ (3% p.a.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increase in number of Harrods Hampers you can buy at the end of the ye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e.g. current 1-yea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pot rat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5.5%, implies expected inflation over the coming year = 2.5%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exed bonds earn a known real retur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5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5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5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6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89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/>
          <p:nvPr/>
        </p:nvSpPr>
        <p:spPr>
          <a:xfrm>
            <a:off x="838080" y="692280"/>
            <a:ext cx="83059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minal “Risky” Retur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Risk free rate +  Risk prem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+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r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p = risk  prem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=‘market   risk’ + liquidity  risk + default  ris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e can measure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historic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 ex-post) risk premiu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Av. Return = 12% p.a.   Av. r = 4% p.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n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x-po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(equity) risk premium = 8% p.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9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9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99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9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23" name=""/>
          <p:cNvSpPr/>
          <p:nvPr/>
        </p:nvSpPr>
        <p:spPr>
          <a:xfrm>
            <a:off x="838080" y="7632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Nominal “RISKY” Return (e.g. on EQUITIE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02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2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02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8" name=""/>
          <p:cNvSpPr/>
          <p:nvPr/>
        </p:nvSpPr>
        <p:spPr>
          <a:xfrm>
            <a:off x="2627280" y="2057400"/>
            <a:ext cx="446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orward Rat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nd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Yield Cur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786960" y="76320"/>
            <a:ext cx="8356680" cy="565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ses of Forward Rates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826920" y="765000"/>
            <a:ext cx="8305920" cy="553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Uses of Forward Rat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oday, you can “lock in” an interest rate which will apply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 between two periods in the futu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(e.g. between end of year-1 and end of year-2, denoted 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Also used in Pricing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ward Agreements replaced by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ward Rate Agreements , FRA’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oating Rate Notes,  FRN’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terest Rate Futures Contract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oating rate receipts, in an interest rate swap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063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064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65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066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5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112760" y="1371600"/>
            <a:ext cx="6919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ments:Spot and Derivative Markets, K.Cuthbertson and D.Nitzsch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hapter 1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rkets, Firms and Inves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hapter 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Business Environ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11430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525600"/>
            <a:ext cx="38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READING</a:t>
            </a: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2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91440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/>
          </p:nvPr>
        </p:nvSpPr>
        <p:spPr>
          <a:xfrm>
            <a:off x="838080" y="609120"/>
            <a:ext cx="8305920" cy="584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wo period investment horizon - riskless investments.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hoic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) Invest your $1 for 2-years at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‘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spot rate’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ipts at t=2  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( 1 +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) Invest $1 for 1-year at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o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urchase an FRA  to invest between t=1 and t=2 at a quoted rate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ipts at t=2  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 ( 1 +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)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1 +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se transactions ar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iskl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nce investors will switch their funds (between 1-year, 2-year and the FRA ) until the 3 interest rates are such that the amounts received at t=2, are equal. 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812880" y="44280"/>
            <a:ext cx="8026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lationship between forward rate and spot rate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10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0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10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1" name=""/>
          <p:cNvSpPr/>
          <p:nvPr/>
        </p:nvSpPr>
        <p:spPr>
          <a:xfrm>
            <a:off x="91440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/>
          </p:nvPr>
        </p:nvSpPr>
        <p:spPr>
          <a:xfrm>
            <a:off x="885600" y="641520"/>
            <a:ext cx="8258040" cy="581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quating 1 and 2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( 1 +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= $1( 1 +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) (1 +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refore: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 1 +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)      =   ( 1 +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/  ( 1 +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)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, approximately (Let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9% p.a. and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 10% pa 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=  2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- 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 2  (10)  -  9  =  11%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06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00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t forward rate is derived from current spot rates (yield curve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rate a bank should quot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so it can be shown that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the market’s best  forecast of what the  “the one-year rate in one-years time” (denoted E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t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will b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13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13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3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13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66" name=""/>
          <p:cNvSpPr/>
          <p:nvPr/>
        </p:nvSpPr>
        <p:spPr>
          <a:xfrm>
            <a:off x="990720" y="609480"/>
            <a:ext cx="800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990720" y="6553080"/>
            <a:ext cx="8001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88840" y="44280"/>
            <a:ext cx="80265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elationship between forward rate and spot rate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77320" cy="79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ELF STUDY</a:t>
            </a:r>
            <a:br>
              <a:rPr sz="20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Algebra of General Calculation of Forward Rates</a:t>
            </a:r>
            <a:endParaRPr b="0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8229600" cy="535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lculate othe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forward rat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from today’s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pot rat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pretty ‘intuitive’ since the superscripts and subscripts ‘add up’ to the same amount on each side of the equals sign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1 + 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0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= ( 1 + 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0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.  (1 + 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 1 + 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03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= ( 1 + 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0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.    (1 + 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13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)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 general (there is no need to memorise this!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        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m,n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 =  [ n / (n -m) ] r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n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-  [ m / (n -m) ] r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m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.g.     f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1,3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 =  [ 3 / 2 ] r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 -  [ 1 / 2 ] r</a:t>
            </a:r>
            <a:r>
              <a:rPr b="0" lang="en-GB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99072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3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174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75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176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"/>
          <p:cNvSpPr/>
          <p:nvPr/>
        </p:nvSpPr>
        <p:spPr>
          <a:xfrm>
            <a:off x="7386480" y="6413400"/>
            <a:ext cx="1744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1912680" y="2222640"/>
            <a:ext cx="56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Yield Cur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and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Expectations Hypothes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0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20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1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21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40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"/>
          <p:cNvSpPr/>
          <p:nvPr/>
        </p:nvSpPr>
        <p:spPr>
          <a:xfrm>
            <a:off x="7386480" y="6413400"/>
            <a:ext cx="1744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"/>
          <p:cNvSpPr/>
          <p:nvPr/>
        </p:nvSpPr>
        <p:spPr>
          <a:xfrm>
            <a:off x="1778040" y="1440000"/>
            <a:ext cx="0" cy="29844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"/>
          <p:cNvSpPr/>
          <p:nvPr/>
        </p:nvSpPr>
        <p:spPr>
          <a:xfrm>
            <a:off x="1752480" y="4419720"/>
            <a:ext cx="5042160" cy="4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762120" y="914400"/>
            <a:ext cx="13921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Yiel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1312920" y="2527200"/>
            <a:ext cx="40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1320840" y="2995560"/>
            <a:ext cx="40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778040" y="2717640"/>
            <a:ext cx="2328840" cy="0"/>
          </a:xfrm>
          <a:prstGeom prst="line">
            <a:avLst/>
          </a:prstGeom>
          <a:ln w="1260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038480" y="2666880"/>
            <a:ext cx="25560" cy="1681200"/>
          </a:xfrm>
          <a:prstGeom prst="line">
            <a:avLst/>
          </a:prstGeom>
          <a:ln w="1260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1778040" y="3073320"/>
            <a:ext cx="1058760" cy="0"/>
          </a:xfrm>
          <a:prstGeom prst="line">
            <a:avLst/>
          </a:prstGeom>
          <a:ln w="1260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819520" y="2971800"/>
            <a:ext cx="17280" cy="1430280"/>
          </a:xfrm>
          <a:prstGeom prst="line">
            <a:avLst/>
          </a:prstGeom>
          <a:ln w="1260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2670120" y="4435560"/>
            <a:ext cx="40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>
            <a:off x="3951360" y="4422600"/>
            <a:ext cx="401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3" name=""/>
          <p:cNvSpPr/>
          <p:nvPr/>
        </p:nvSpPr>
        <p:spPr>
          <a:xfrm>
            <a:off x="1830240" y="2514600"/>
            <a:ext cx="8229240" cy="3015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" y="10914"/>
                </a:moveTo>
                <a:arcTo wR="10800" hR="10800" stAng="10763815" swAng="5434859"/>
                <a:lnTo>
                  <a:pt x="10800" y="10800"/>
                </a:lnTo>
                <a:close/>
              </a:path>
              <a:path fill="none" w="21600" h="21600">
                <a:moveTo>
                  <a:pt x="1" y="10914"/>
                </a:moveTo>
                <a:arcTo wR="10800" hR="10800" stAng="10763815" swAng="5434859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6794640" y="4170240"/>
            <a:ext cx="2265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Time to matur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625760" y="3833640"/>
            <a:ext cx="507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6121440" y="2309760"/>
            <a:ext cx="40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5398920" y="4422600"/>
            <a:ext cx="40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5486400" y="2666880"/>
            <a:ext cx="25560" cy="1681200"/>
          </a:xfrm>
          <a:prstGeom prst="line">
            <a:avLst/>
          </a:prstGeom>
          <a:ln w="1260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 flipV="1">
            <a:off x="1676520" y="2436840"/>
            <a:ext cx="3886200" cy="1440"/>
          </a:xfrm>
          <a:prstGeom prst="line">
            <a:avLst/>
          </a:prstGeom>
          <a:ln w="12600">
            <a:solidFill>
              <a:srgbClr val="ffff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1312920" y="2146320"/>
            <a:ext cx="401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1375920" y="5638680"/>
            <a:ext cx="63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yield curve is usually upward sloping.  WHY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843840" y="177840"/>
            <a:ext cx="391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gure 5 :YIELD CURV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6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26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6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26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6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837720" y="172800"/>
            <a:ext cx="7742520" cy="360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 YIELD CURV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1012320" y="1828800"/>
            <a:ext cx="8055000" cy="467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Why are long rates of interest often higher than short rates of interest 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- can long rates be lower than short rates ?  Yes !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- Expectations Hypothesi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f we know the shape of the yield curve (ie. All the spot rates) then we can calculate forward rates for all maturiti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7386480" y="6413400"/>
            <a:ext cx="1744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30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0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30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2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91440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ations Hypothesis (EH): Term Structur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914400" y="1676160"/>
            <a:ext cx="8229600" cy="490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bitrage: assuming risk neutrality 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.( 1+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= $1.  (1+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. [    1 + E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]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prox.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 1 / 2 ) .  [ 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+  E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H implies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Long-rate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s weighted average of  current (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and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pec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uture (one-period) short rates  E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7386480" y="6413400"/>
            <a:ext cx="1744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33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3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34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69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0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838080" y="0"/>
            <a:ext cx="830592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Upward Sloping Yield Curve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838080" y="764640"/>
            <a:ext cx="830592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ising yield curve implies that short rates are  expected to be higher in the future and this is probably because inflation is expected to rise in future years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flation Prediction from the yield curve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serve the current yield curv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6%,    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5%, then  f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7.0%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real rate = 3%, then  ( from Fisher effect)</a:t>
            </a:r>
            <a:br>
              <a:rPr sz="2400"/>
            </a:b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xpec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nnual inflatio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 1-yea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ime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7 - 3   =   4%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  Bank of England inflation forecast  ?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grpSp>
        <p:nvGrpSpPr>
          <p:cNvPr id="1373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374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376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05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99072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"/>
          <p:cNvSpPr/>
          <p:nvPr/>
        </p:nvSpPr>
        <p:spPr>
          <a:xfrm>
            <a:off x="2916360" y="2349360"/>
            <a:ext cx="3960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Data On</a:t>
            </a:r>
            <a:br>
              <a:rPr sz="3600"/>
            </a:b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 Yields, Prices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Arial"/>
              </a:rPr>
              <a:t>Returns and R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91440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41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41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1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"/>
          <p:cNvSpPr/>
          <p:nvPr/>
        </p:nvSpPr>
        <p:spPr>
          <a:xfrm>
            <a:off x="838080" y="1206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sset Returns and Volatility (Annual): Data, 1926-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838080" y="990720"/>
            <a:ext cx="830592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Arith. Mean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S.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tocks (S&amp;P500), 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13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20.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Small Stoc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bottom 5th on NYSE)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18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.T Corp Bond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6.1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8.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.T. Gov bond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.6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9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 T-bills, r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.8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.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nflation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3.6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Notes:1)  dividends/coupons reinvested. 2) The geometric mean return would be less than the arithmetic mean return 3) arithmetic mean return is larger the shorter the horizon chosen(eg. 1-year versus 2-year returns etc, - this is because returns are ‘mean reverting’ (or have negative autocorrelation) over longer horizons,( ie. they are not statistically independent) - see elementary stats book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(Source Brealey &amp; Myers 6th ed p156-164)</a:t>
            </a:r>
            <a:r>
              <a:rPr b="0" lang="en-GB" sz="1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4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44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4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44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77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6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9" name=""/>
          <p:cNvSpPr/>
          <p:nvPr/>
        </p:nvSpPr>
        <p:spPr>
          <a:xfrm>
            <a:off x="826920" y="1014480"/>
            <a:ext cx="76964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GIVE  AN OUTLINE  OF KEY TOPICS WHICH CAN THEN BE FOLLOWED UP IN CUTHBERTSON AND NITZSCH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VERY SLIDE IS NOT  DISCUSSED ‘LINE BY LINE’ IN THE LECTURES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 PROVIDE ‘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ELF ASSESSMENT’ SLID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 QUESTIONS OR ‘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EW’ MATERIA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TO FOLLOW UP OUTSIDE THE LECTU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914400" y="6477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80920" y="25236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TIONALE OF SL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91440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"/>
          <p:cNvSpPr/>
          <p:nvPr/>
        </p:nvSpPr>
        <p:spPr>
          <a:xfrm>
            <a:off x="914400" y="1219320"/>
            <a:ext cx="8001000" cy="53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v.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Re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return on S&amp;P          =  9.4 %            ( = 13 - 3.6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v.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xces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return on S&amp;P =  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r  =   9%      (appro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often referred to as the ‘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market risk premium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“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xcess return per unit of risk”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= (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r)/</a:t>
            </a:r>
            <a:r>
              <a:rPr b="0" lang="en-GB" sz="2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= 0.45 (= 9/2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often referred to as the ‘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harpe ratio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urvivorship bias in just using US data? 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duce ‘US market risk premium by 1.5% 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755640" y="120600"/>
            <a:ext cx="862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Asset Returns and Volatility (Annual): Data, 1926-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8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48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8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48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3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"/>
          <p:cNvSpPr/>
          <p:nvPr/>
        </p:nvSpPr>
        <p:spPr>
          <a:xfrm>
            <a:off x="917640" y="4680"/>
            <a:ext cx="769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Volatility of S&amp;P500 (Annual) US Data, 1930-97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1116000" y="838080"/>
            <a:ext cx="711360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S.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30’s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41.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4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7.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5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4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6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3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7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7.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8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.4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990-97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14.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Source Brealey &amp; Myers 6th ed p156-164)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91440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51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1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52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9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"/>
          <p:cNvSpPr/>
          <p:nvPr/>
        </p:nvSpPr>
        <p:spPr>
          <a:xfrm>
            <a:off x="840960" y="25560"/>
            <a:ext cx="701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RISK GRADES: FT  19/10/00 (for Oct 17th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1050840" y="914400"/>
            <a:ext cx="8855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OND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EQUITY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FX(rel to USD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urop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5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86(135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62(Euro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merica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94(146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49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sia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98(139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9(Ye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lobal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8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7(156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…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K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77  (115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: ( . .) = 52-week hig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100 = average volatility of international equity mk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914400" y="5335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53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554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55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556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85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"/>
          <p:cNvSpPr/>
          <p:nvPr/>
        </p:nvSpPr>
        <p:spPr>
          <a:xfrm>
            <a:off x="2907360" y="2863800"/>
            <a:ext cx="332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00"/>
                </a:solidFill>
                <a:latin typeface="Times New Roman"/>
              </a:rPr>
              <a:t>Slides End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990720" y="65530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8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58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9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59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20" name=""/>
          <p:cNvSpPr/>
          <p:nvPr/>
        </p:nvSpPr>
        <p:spPr>
          <a:xfrm>
            <a:off x="99072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755640" y="836640"/>
            <a:ext cx="84582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 SEMINAR SHEETS (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EFORE CLASS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) AND MUST DO BACKGROUND READING (CUTHBERTSON/NITZSCH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ALL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F THE SYLLABUS IS EXAMINABL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VISE YOUR BASIC ‘STATISTICAL CONCEPTS’, NOW ! (E.G. mean, standard deviation, correlation, covariance, elementary probability, expected value, regression + s-errors + t-tests, decision trees.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RE IS A LOT TO DO, BUT MUCH USEFUL ‘VALUE ADDED’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0" y="0"/>
            <a:ext cx="755640" cy="6854760"/>
            <a:chOff x="0" y="0"/>
            <a:chExt cx="755640" cy="6854760"/>
          </a:xfrm>
        </p:grpSpPr>
        <p:sp>
          <p:nvSpPr>
            <p:cNvPr id="195" name=""/>
            <p:cNvSpPr/>
            <p:nvPr/>
          </p:nvSpPr>
          <p:spPr>
            <a:xfrm>
              <a:off x="0" y="0"/>
              <a:ext cx="75564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2920" y="163440"/>
              <a:ext cx="105840" cy="6550200"/>
              <a:chOff x="52920" y="163440"/>
              <a:chExt cx="105840" cy="6550200"/>
            </a:xfrm>
          </p:grpSpPr>
          <p:sp>
            <p:nvSpPr>
              <p:cNvPr id="197" name=""/>
              <p:cNvSpPr/>
              <p:nvPr/>
            </p:nvSpPr>
            <p:spPr>
              <a:xfrm>
                <a:off x="52920" y="1754280"/>
                <a:ext cx="10584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2920" y="1984320"/>
                <a:ext cx="10584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2920" y="2211480"/>
                <a:ext cx="10584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2920" y="2441520"/>
                <a:ext cx="10584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52920" y="2671920"/>
                <a:ext cx="10584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2920" y="2898720"/>
                <a:ext cx="10584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2920" y="3129120"/>
                <a:ext cx="10584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2920" y="3359160"/>
                <a:ext cx="10584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920" y="3586320"/>
                <a:ext cx="10584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2920" y="3816360"/>
                <a:ext cx="10584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2920" y="4046400"/>
                <a:ext cx="10584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2920" y="4272120"/>
                <a:ext cx="10584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920" y="4502160"/>
                <a:ext cx="10584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2920" y="4729320"/>
                <a:ext cx="10584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2920" y="4959360"/>
                <a:ext cx="10584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2920" y="5189400"/>
                <a:ext cx="10584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2920" y="5416560"/>
                <a:ext cx="10584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2920" y="5646600"/>
                <a:ext cx="10584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2920" y="5877000"/>
                <a:ext cx="10584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2920" y="6103800"/>
                <a:ext cx="10584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2920" y="6334200"/>
                <a:ext cx="10584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2920" y="6562800"/>
                <a:ext cx="10584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920" y="163440"/>
                <a:ext cx="10584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2920" y="390600"/>
                <a:ext cx="10584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2920" y="620640"/>
                <a:ext cx="10584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2920" y="849240"/>
                <a:ext cx="10584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2920" y="1076400"/>
                <a:ext cx="10584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2920" y="1306440"/>
                <a:ext cx="10584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2920" y="1536840"/>
                <a:ext cx="10584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6" name=""/>
          <p:cNvSpPr/>
          <p:nvPr/>
        </p:nvSpPr>
        <p:spPr>
          <a:xfrm>
            <a:off x="914400" y="6477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80920" y="252360"/>
            <a:ext cx="414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RATIONALE OF SLI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990720" y="2146320"/>
            <a:ext cx="761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ypes of Financial Assets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LEND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a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BORROWING FUN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14400" y="6477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3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3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826920" y="692280"/>
            <a:ext cx="76201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New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physical) investment projects - have to be financ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er of e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xisting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hysical assets to more productive uses: ( e.g. ‘Low’ stock price is a signal for another firm, to raise funds for a  takeover by more efficient managers - ‘the market for corporate control’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ket prices/returns reflect the ‘scarcity’ of funds and the financial system is supposed to allocate  “funds” to the most productive/ profitable  ‘physical investments’ - competition for fund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33400" y="47520"/>
            <a:ext cx="49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LENDING AND BORR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6477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6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7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7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826920" y="692280"/>
            <a:ext cx="77724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Financial system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s “funds” between borrowers and lenders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 some to “spend” before they have earned the “income” and others to defer “spending” (i.e. Sav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-temporal re-allocation” of cash flow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6477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304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05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306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5" name=""/>
          <p:cNvSpPr/>
          <p:nvPr/>
        </p:nvSpPr>
        <p:spPr>
          <a:xfrm>
            <a:off x="833400" y="123840"/>
            <a:ext cx="4970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LENDING AND BORROW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6b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97040" y="155520"/>
            <a:ext cx="71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"/>
              </a:rPr>
              <a:t>TYPES OF FINANCIAL ASSET (MARKET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6920" y="765000"/>
            <a:ext cx="815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Financial assets differ i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tur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equency of expected paymen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certainty of cash flow or final pri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holders own the firm and control managers via voting rights over the composition of Board of Directo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t holders (=bonds holders +bank loans) do not ‘own’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firm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But debt holders do ha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fluen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n the  manag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Can put the firm into liquid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34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34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1" name=""/>
          <p:cNvSpPr/>
          <p:nvPr/>
        </p:nvSpPr>
        <p:spPr>
          <a:xfrm>
            <a:off x="91440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9T11:59:54Z</dcterms:created>
  <dc:creator>Alessandro Cozzani</dc:creator>
  <dc:description/>
  <dc:language>en-US</dc:language>
  <cp:lastModifiedBy>Alessandro Cozzani</cp:lastModifiedBy>
  <cp:lastPrinted>2001-09-26T17:57:33Z</cp:lastPrinted>
  <dcterms:modified xsi:type="dcterms:W3CDTF">2002-03-16T11:42:08Z</dcterms:modified>
  <cp:revision>162</cp:revision>
  <dc:subject>Financial Management</dc:subject>
  <dc:title>Creation of financial assets</dc:title>
</cp:coreProperties>
</file>